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D10-2259-41B3-9FD7-CFACF9F4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B4D-A463-49FF-A58A-67C5ABFD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440-B145-43C9-B077-AE01EC4E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F1A-8A2A-4F73-A122-D403C9A9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CF8-C62D-4A52-9385-40CAEB8E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5D0-B639-4D08-BE07-8AEA38B1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701-D2FE-4F3F-B7D5-3D5BAE73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FDA-04EB-41BC-BA6F-630AA474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497-7199-4CE0-8B60-5E447FD9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F26-35CB-4F05-8AA6-7059E722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706-6753-4439-A934-07D95AD0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59B-8589-4195-A122-D6B1D33E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5506-06D7-4524-AFB6-C0939311A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ální projek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Zvyšování kvality sociálních služeb ve Středočeském kr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37712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ávěrečná konfer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.6.2013 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Individuální projekt Středočeského kraje</a:t>
            </a:r>
            <a:br>
              <a:rPr sz="32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kt je financován z Evropského sociálního fondu prostřednictvím OP Lidské zdroje a zaměstnanost a ze státního rozpočtu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yšování kvality sociálních služeb ve Středočeském kraji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gistrační číslo projektu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CZ.1.04/3.1.00/05.0004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ástka/rozpočet projektu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31 558 470,00 K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oba realizace projektu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1. srpen 2011 až 31. červenec 2013 (24 měsíců)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pis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všechny PO zřizované krajem; na poskytovatele pobytových služeb pro seniory a osoby se zdravotním postižením nezřizované krajem; na poskytovatelé pečovatelské služby; sociální pracovníky obcí a kraj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ílem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zdělat zaměstnance v sociálních službách na všech úrovních (management i přímá péče); prostřednictvím konkrétních klíčových aktivit, vytvoření podkladů pro kvalitní poskytování služeb, podpora managementu dobrovolnictví / programů apod. Cíle dosahovány prostřednictvím vzdělávacích aktivit a aktivit prohlubujících kvalitu - akreditované kurzy; konzultace na místě; cvičné audity; ap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stup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ýšení kvality a provázanost služeb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690 podpořených osob; 1590 úspěšných absolventů; 6 inovativních produk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jekt se nezaměřuje na zaměstnance všech sociálních služeb v SK (např. na služby soc. prevenc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1131c"/>
                </a:solidFill>
                <a:latin typeface="Arial"/>
              </a:rPr>
              <a:t>Analýza potřebnosti vzdělávání v oblasti sociálních služeb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řed schválením projekt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pována potřebnost vzdělávání a případné zaměření projektu a jeho aktivit u všech poskytovatelů sociálních služeb ve Středočeském kraji (s ohledem na soc.služby) – rok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stavení projektu a jeho aktivit s ohledem na možnosti výzvy OPLZZ a zjištěné potřebnosti od poskytovatelů a zadavatelů soc. služeb konec roku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psání a podání projektové žádosti začátek roku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hválení projektu ŘO v polovině roku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alizace projekt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jekt realizován od srpna 2011 (2 roky) s tím, že nejpozději do konce roku 2011 mělo dojít k výběru dodavatelů 6 klíčových aktiv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běr dodavatelů zpožděn z důvodu složité  administrace výběrových řízení, opakování výběrových řízení, nového nastavení akreditačních podmínek ze strany MPSV (změny i na základě podnětů realizátora projektu) – nemožnost navyšování nad rámec akreditací apod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ealizace vzdělávacích aktivit od srpna 2012 (zpoždění o cca 7 měsíců – vliv na potřebu intenzivnější vzdělávací aktivity /omezení doby realizace projektu z 18 měsíců na 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Řešené problém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jekt vycházel z potřeb z roku 2010 – od té doby změny v potřebách poskytovatelů soc. sl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 roku 2010 významné změny v legislativě a potřebách (např. přechod významné části soc. práce na Ú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krácená realizace projekt. aktivit není pro všechny poskyt. soc. sl. akceptovatelná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1131c"/>
                </a:solidFill>
                <a:latin typeface="Arial"/>
              </a:rPr>
              <a:t>Aktivity projektu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ace klíčových aktivit vzdělávání v rámci 6 aktiv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 4 – MANAGEMENT SENIOŘ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 5 – PŘÍMÁ PRÁCE SENIOŘ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F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 6 – PEČOVATELSKÉ SLUŽBY A OB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 7 – MANAGEMENT OZ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Z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 8 - PŘÍMÁ PRÁCE OZ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F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 9 – MANAGEMENT DOBROVOLNICTV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1131c"/>
                </a:solidFill>
                <a:latin typeface="Arial"/>
              </a:rPr>
              <a:t>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Zaměření aktivit napříč organizacemi a pozic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ížení nákladů na vzdělávání v organiza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školení zaměstnanc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ergie (1+1&gt;2 ) – např. definování akreditací a jejich limitů (výše hod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pora pro vznik IP kraje na procesy plánování a soc. práci (do úrovně obcí) – od září 2013; IP kraje na audity kvality příspěvkových organizací cca od listopadu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ěření si nemožnosti centralizace některých oblastí a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1131c"/>
                </a:solidFill>
                <a:latin typeface="Arial"/>
              </a:rPr>
              <a:t>ZÁ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a reálné realiz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ovaný výběr té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tupnost progra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yváženost témat a poptávky / proměna v č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hlcení vzdělávání manage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zájem některých organizací a ob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1131c"/>
                </a:solidFill>
                <a:latin typeface="Arial"/>
              </a:rPr>
              <a:t>Hodnocení ze strany doda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ováno v červnu 2013 (spokoje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 4 (75 % dodavatel / 75 % účastní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 5 (100 % dodavatel / 75 % účastní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 6 (75 % dodavatel / 75 % účastní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 7 (50 % dodavatel / 75 účastní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 8 (100 % dodavatel / 75 % účastní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 9 (75 % dodavatel / 75 % účastní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1131c"/>
                </a:solidFill>
                <a:latin typeface="Arial"/>
              </a:rPr>
              <a:t>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konány nastavené indikátory podpořených osob a úspěšných absolventů, v řádu set (nad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6 inovativních produ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Analýzy vzdělávacích potřeb a stanovení oblastí podpory ve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školení zaměstnan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pora finančních prostředků předpokládaných na realizaci projektu – téměř 10 mil. K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ových záměrů a projektů - dalš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915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1131c"/>
                </a:solidFill>
                <a:latin typeface="Arial"/>
              </a:rPr>
              <a:t>Děkujeme za účast i pozornos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Středočeský kraj (odbor sociálních věcí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4869000"/>
            <a:ext cx="8229600" cy="12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fryc</cp:lastModifiedBy>
  <dcterms:modified xsi:type="dcterms:W3CDTF">2013-06-25T06:53:47Z</dcterms:modified>
  <cp:revision>32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29101496</vt:r8>
  </property>
  <property fmtid="{D5CDD505-2E9C-101B-9397-08002B2CF9AE}" pid="3" name="_AuthorEmail">
    <vt:lpwstr>fryc@kr-s.cz</vt:lpwstr>
  </property>
  <property fmtid="{D5CDD505-2E9C-101B-9397-08002B2CF9AE}" pid="4" name="_AuthorEmailDisplayName">
    <vt:lpwstr>Fryč Vladislav</vt:lpwstr>
  </property>
  <property fmtid="{D5CDD505-2E9C-101B-9397-08002B2CF9AE}" pid="5" name="_EmailSubject">
    <vt:lpwstr>prenzentace naše!</vt:lpwstr>
  </property>
</Properties>
</file>